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302-7BEA-49CE-8ABE-9EBC9817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D90-EAD3-4EE1-AE77-4FA9723D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1AF-4805-4500-B269-FC7B8F9E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824-8351-44AD-A796-F4EE6B55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E60-C5E9-4DB7-ABB4-5A06706C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923-2676-4841-96B1-B53EF24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E8C-6A11-4999-918E-759817B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AEA-0CA7-4F33-9AE9-6899857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FE3-5E29-4DFC-8BBD-0DA25834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BF5-303C-4045-B908-16597A88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565-706B-435A-A988-3815AAA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ECE-47D6-4E48-A049-7AB3B7DE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B21B-991A-4952-8F05-539C4C6D7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1 Título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2 Subtítulo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2411280" y="587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Viña del Mar, 12  de mayo de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954800" y="1989000"/>
            <a:ext cx="526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 Black"/>
              </a:rPr>
              <a:t>ESCU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 Black"/>
              </a:rPr>
              <a:t>ORLANDO PEÑA CARVAJ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1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133280" y="1412280"/>
            <a:ext cx="69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0" lang="es-AR" sz="1800" spc="-1" strike="noStrike">
                <a:solidFill>
                  <a:srgbClr val="ffff00"/>
                </a:solidFill>
                <a:latin typeface="Arial Black"/>
              </a:rPr>
              <a:t>el modo de hacer algo, de manera ajustada y contextualizada”</a:t>
            </a:r>
            <a:r>
              <a:rPr b="0" lang="es-E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094040" y="6922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 Black"/>
              </a:rPr>
              <a:t>PRAC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844640"/>
            <a:ext cx="0" cy="1152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1844640"/>
            <a:ext cx="0" cy="180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98960" y="306864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 Black"/>
              </a:rPr>
              <a:t>GESTIÓN CURRIC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814840" y="378936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 Black"/>
              </a:rPr>
              <a:t>GESTIÓN INSTITU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1844640"/>
            <a:ext cx="0" cy="230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221000"/>
            <a:ext cx="3240000" cy="24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270480" y="4653000"/>
            <a:ext cx="1992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ESCUELA CON NUE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DIREC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UTP RETORN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ATENCIÓ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PRIMER CICL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MANTENIEN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Black"/>
              </a:rPr>
              <a:t>DOCEN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4221000"/>
            <a:ext cx="0" cy="936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83720" y="5373720"/>
            <a:ext cx="3666240" cy="307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CENTRADA EN LO TÉCNICO PEDAGÓG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3716280"/>
            <a:ext cx="0" cy="144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8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2 Marcador de contenido"/>
          <p:cNvSpPr/>
          <p:nvPr/>
        </p:nvSpPr>
        <p:spPr>
          <a:xfrm>
            <a:off x="611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1052640"/>
          <a:ext cx="7561080" cy="1998000"/>
        </p:xfrm>
        <a:graphic>
          <a:graphicData uri="http://schemas.openxmlformats.org/drawingml/2006/table">
            <a:tbl>
              <a:tblPr/>
              <a:tblGrid>
                <a:gridCol w="3591720"/>
                <a:gridCol w="637920"/>
                <a:gridCol w="638640"/>
                <a:gridCol w="636480"/>
                <a:gridCol w="638280"/>
                <a:gridCol w="638280"/>
                <a:gridCol w="779760"/>
              </a:tblGrid>
              <a:tr h="64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ngua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m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1407960" y="5661000"/>
            <a:ext cx="34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 Black"/>
              </a:rPr>
              <a:t>UTP – 1   MARIBEL CARM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 Black"/>
              </a:rPr>
              <a:t>UTP – 2  RUBY MUÑ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87280" y="3357720"/>
          <a:ext cx="6984720" cy="1726560"/>
        </p:xfrm>
        <a:graphic>
          <a:graphicData uri="http://schemas.openxmlformats.org/drawingml/2006/table">
            <a:tbl>
              <a:tblPr/>
              <a:tblGrid>
                <a:gridCol w="894600"/>
                <a:gridCol w="900360"/>
                <a:gridCol w="900360"/>
                <a:gridCol w="900000"/>
                <a:gridCol w="900720"/>
                <a:gridCol w="900000"/>
                <a:gridCol w="733680"/>
                <a:gridCol w="855000"/>
              </a:tblGrid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P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P -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6" name="1 Título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324000" y="126828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1360080" y="9810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 Black"/>
              </a:rPr>
              <a:t>DOC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27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1640" y="1682640"/>
          <a:ext cx="5616360" cy="5175360"/>
        </p:xfrm>
        <a:graphic>
          <a:graphicData uri="http://schemas.openxmlformats.org/drawingml/2006/table">
            <a:tbl>
              <a:tblPr/>
              <a:tblGrid>
                <a:gridCol w="1167840"/>
                <a:gridCol w="973800"/>
                <a:gridCol w="1168200"/>
                <a:gridCol w="1168200"/>
                <a:gridCol w="113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C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P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C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C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P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C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497040" y="126828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2007          2008          2009           2010         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25440" y="5229360"/>
            <a:ext cx="219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CLAUDIA DEL SOL  C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CRISTINA PÉREZ   C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 Black"/>
              </a:rPr>
              <a:t>PATRICIA MOLINA P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8467560" y="1873080"/>
            <a:ext cx="358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3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3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3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3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3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7" name="1 Título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611280" y="1413000"/>
            <a:ext cx="822960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773000" y="1052280"/>
            <a:ext cx="56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 Black"/>
              </a:rPr>
              <a:t>UN CONJUNTO DE ACCIONES COORDINAD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 Black"/>
              </a:rPr>
              <a:t>QUE SE DISTINGUEN POR SER UN APORTE PA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 Black"/>
              </a:rPr>
              <a:t>EL ÉXITO Y EFECTIVIDAD DE UN ESTABLECIMIEN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074040" y="2637000"/>
            <a:ext cx="2844720" cy="824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 Black"/>
              </a:rPr>
              <a:t>ÉNFA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 Black"/>
              </a:rPr>
              <a:t>DIRECCIÓN INTENCIO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428080" y="4076640"/>
            <a:ext cx="2683080" cy="824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 Black"/>
              </a:rPr>
              <a:t>CONOCIMIENTO TÉCN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 Black"/>
              </a:rPr>
              <a:t>CLARIDAD DEL OBJET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766240" y="4437000"/>
            <a:ext cx="75672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 Black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4653000"/>
            <a:ext cx="1368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644640"/>
            <a:ext cx="0" cy="647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521160" y="6165720"/>
            <a:ext cx="2582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DOCENTE   A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3068640"/>
            <a:ext cx="1584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068640"/>
            <a:ext cx="0" cy="302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6093000"/>
            <a:ext cx="23767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794160" y="5445000"/>
            <a:ext cx="28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FORM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PRODUCCIÓN DE APRENDIZA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217160" y="4005360"/>
            <a:ext cx="19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 Black"/>
              </a:rPr>
              <a:t>DOS PROFESION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6606720" y="5373720"/>
            <a:ext cx="2335680" cy="1371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Arial Black"/>
              </a:rPr>
              <a:t>TRABAJO FUNDA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Arial Black"/>
              </a:rPr>
              <a:t>EN LA ESCU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Arial Black"/>
              </a:rPr>
              <a:t>EVALUACIONES CONST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Arial Black"/>
              </a:rPr>
              <a:t>ÉNFASIS LECTU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Arial Black"/>
              </a:rPr>
              <a:t>CLIMA DEL A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Arial Black"/>
              </a:rPr>
              <a:t>INSTRUMENTOS EVALU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Arial Black"/>
              </a:rPr>
              <a:t>APROPI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5734080"/>
            <a:ext cx="865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5734080"/>
            <a:ext cx="0" cy="35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54:51Z</dcterms:created>
  <dc:creator>Sebastip</dc:creator>
  <dc:description/>
  <dc:language>en-US</dc:language>
  <cp:lastModifiedBy>hugo</cp:lastModifiedBy>
  <dcterms:modified xsi:type="dcterms:W3CDTF">2011-05-11T18:49:52Z</dcterms:modified>
  <cp:revision>34</cp:revision>
  <dc:subject/>
  <dc:title>Aplicación del Programa LEE</dc:title>
</cp:coreProperties>
</file>